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4F88-271F-4DAE-9E30-C223695B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C5C8-3FF5-4500-9A40-5FAAC8BE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1262-8E41-4355-ABD0-10C9A4A4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5BD3-F256-46BB-BB27-EE5AB1FB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4CC4-E5E4-4D3A-9159-8E7E8069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D5DF-8A51-4B21-9246-A2DAFBD2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2EB8-00AD-4326-95DD-9CD13C6B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AFDF-45DE-4F15-B792-89B2D610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3AE5-6A62-415A-984A-4B795E54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198C-86F3-4588-B649-B73745EB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6DBB-6045-4166-A8DC-4619F2BC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AA6D-EE8E-4C30-890D-09A6012D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BB91-6E28-4775-84D5-DB7CCE6C8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appliedlanguage.com/flags_of_the_world/large_flag_of_united_states.gif&amp;imgrefurl=http://www.appliedlanguage.com/flags_of_the_world/flag_of_united_states.shtml&amp;usg=__eFyFSagUM5zLeFSXR0tY3eygprk=&amp;h=302&amp;w=575&amp;sz=7&amp;hl=en&amp;start=5&amp;um=1&amp;itbs=1&amp;tbnid=ReAV7CPdi6X5dM:&amp;tbnh=70&amp;tbnw=134&amp;prev=/images%3Fq%3Dunited%2Bstates%26um%3D1%26hl%3Den%26safe%3Dactive%26sa%3DN%26rlz%3D1R2GGLR_enUS345%26tbs%3Disch:1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tinternet-institute.com/Images/etudes/es-ES/equipement18_7.pn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abc.es/blogs/nieves/public/+250MA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temzoo.blogdiario.com/img/animal2.jpg&amp;imgrefurl=http://utemzoo.blogdiario.com/1232120520/&amp;usg=__f2DxZPqve458aMEZEnno7rH83o0=&amp;h=600&amp;w=800&amp;sz=74&amp;hl=en&amp;start=4&amp;um=1&amp;itbs=1&amp;tbnid=-eEXUbyQDdRe9M:&amp;tbnh=107&amp;tbnw=143&amp;prev=/images%3Fq%3Dlos%2Banimales%26um%3D1%26hl%3Den%26safe%3Dactive%26rlz%3D1R2GGLR_enUS345%26tbs%3Disch:1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studentweb.cortland.edu/sarah.decapio/miniproj2/animales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5400" spc="-1" strike="noStrike">
                <a:solidFill>
                  <a:srgbClr val="000000"/>
                </a:solidFill>
                <a:latin typeface="Old English Text MT"/>
              </a:rPr>
              <a:t>JOSUE .DELGADO</a:t>
            </a:r>
            <a:r>
              <a:rPr b="0" lang="en-US" sz="4400" spc="-1" strike="noStrike">
                <a:solidFill>
                  <a:srgbClr val="000000"/>
                </a:solidFill>
                <a:latin typeface="Old English Text MT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ld English Text MT"/>
              </a:rPr>
              <a:t>JO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ld English Text MT"/>
              </a:rPr>
              <a:t>AGUSTINIAN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pa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Cancun Vacations"/>
          <p:cNvPicPr/>
          <p:nvPr/>
        </p:nvPicPr>
        <p:blipFill>
          <a:blip r:embed="rId1"/>
          <a:stretch/>
        </p:blipFill>
        <p:spPr>
          <a:xfrm>
            <a:off x="457200" y="2666880"/>
            <a:ext cx="3952800" cy="3162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29200" y="2971800"/>
            <a:ext cx="3657600" cy="1911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169600" y="194472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dos U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contin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429000"/>
            <a:ext cx="3886200" cy="2862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95680" y="3581280"/>
            <a:ext cx="419112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anim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tigre-el cabballo-el perro-el conejo-el perrico-el g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276720"/>
            <a:ext cx="3809880" cy="2851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3276720"/>
            <a:ext cx="403848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om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ne  pollo tortillas salsa limon sanaoria cilantro tomat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523872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fami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a p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ma lou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hijos chris y stew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hija me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perro bry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380988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ro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8:31:04Z</dcterms:created>
  <dc:creator>WSFCS Workstation</dc:creator>
  <dc:description/>
  <dc:language>en-US</dc:language>
  <cp:lastModifiedBy>WSFCS Workstation</cp:lastModifiedBy>
  <dcterms:modified xsi:type="dcterms:W3CDTF">2010-04-26T18:55:21Z</dcterms:modified>
  <cp:revision>3</cp:revision>
  <dc:subject/>
  <dc:title>Slide 1</dc:title>
</cp:coreProperties>
</file>